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7DB9-CE4E-4D15-8C50-78F920F31D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CC00-9972-420B-9A25-3A8EB1AC43D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5577-8C34-4BF4-B91E-920F6CCAF11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8BAF-9EFF-4DCF-B9DE-0F73E67F8F5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9330-94B5-469F-8E73-5ABC7763316C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92C3-74B7-411B-9A78-9325C68642A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C5E5-5964-428C-B604-8DFD62186DD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BA6E-F04D-42E7-BC99-3D771015304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2253-858C-4CC7-91FF-6E1CD82FDC5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E958-BDF3-4DC8-BF9A-34E61116DBD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5DB3-1206-4C54-A4CF-7DF721295BB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8AA2-DB13-40F2-BAC5-08CDB14290F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io factors that get you to attend one hos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8C02-47B1-48F2-9A9E-A2CC740A531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42BF-DE18-47D9-9047-CC0F72C34F0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63E0-304D-48D6-8881-CC06CC00C1F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BDCD-2C57-4368-9114-EE9279C74AD4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DB33-6091-4F74-81B2-F546DCF8BEA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BC3A-1751-46D3-AF4A-48181A305DB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ADF5-5BF0-40C4-B7CA-AFB88BE2B65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F850-7DD3-4061-8C79-18905704273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EBB2-0FCB-4D0D-90C1-CA0443DBF58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1AB3-6D76-44B1-ACFE-5DF1AB99C38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8700-0EE9-4DCA-8AC9-1BF7285B62F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1E94-BF54-4D2C-B96F-B08C283443F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F6F1-3521-4747-A6ED-6200C786EAC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D13D-43E1-46B4-91D2-1C1893039AC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02F8-A541-4E8A-99CA-A902DF625A7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FC60-284B-4D43-8A98-D3671BC379D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0881-28E3-4DB7-A616-EFA2A679018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EA23-B8FB-4793-8717-A946170380B4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8030-0859-4C7B-B08B-AB12367BE85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CA22-912E-4E1F-9A5B-F733CDB6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8C9-DF86-4D2E-9DDB-D7F090D2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AF06-5A9A-4917-A300-CC6AF2B0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86B-4607-4082-9E29-1DBB1A1A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AC7E-B485-48AA-93FC-9463C591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0B60-C4F5-4C0F-AA52-8610996A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7902-C2E4-4E4D-B3C3-44DC93D3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26DC-E450-4B9E-BE6B-773C0423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1536-F76A-4E6F-8C00-E5995FB1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237E-78F6-41B6-90E9-51D948AE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4E5A-22A9-41D9-845F-71CF1C28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4651-85C6-428F-8CFE-1BA210B6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7FC9-B20F-41E6-A976-C3D3CC4D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B5D0-7315-4998-9D92-7F556810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FBF5-42B8-4C2C-A63C-6FD96B8B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CFC6-4C2C-4409-A08A-4DA79382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2524-FF4E-40FB-899E-B89D6D62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976A-2C8D-4F4D-BC23-FDE04AE3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ED70-FED9-48E0-B5CF-78E9084F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6CC-BC32-49E9-B6F0-4349AC03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440E-A51D-45D1-9BBD-70430898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0137-509B-4754-A7DC-38067E7B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8FD0-4627-4DC6-B2DA-9F329543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79E-883D-4EDD-94FA-F442C9C8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F497-D1EC-47E2-A25C-44EC3055FEFF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027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95F2-85D4-4173-9E53-1A8E0D77E14F}" type="slidenum">
              <a:rPr b="0" lang="en-GB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se-control stud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r Luis E Cuevas – LST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Julia Critchle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osure to risk factor/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1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219320" y="1752480"/>
            <a:ext cx="7315200" cy="426744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1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 exposure higher/lower in cas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1080" y="2057400"/>
            <a:ext cx="1524240" cy="60948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2440" y="965160"/>
            <a:ext cx="63118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en are these studies most useful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2398680"/>
            <a:ext cx="820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mited information on risk factors (some times carried out before cohort studi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idence of the disease is low (rare diseas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udy many risk factors simultaneous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7160" y="112680"/>
            <a:ext cx="8637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jor problem with case-control studies is bias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election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ifferences in people who select themselves for studies compared with those who do no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easurement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ividual measurements of disease or exposure are more likely to be incorr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call bias in case-contro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might you reduce these biases in practic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uggestion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762120" y="685800"/>
            <a:ext cx="33526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7315200" y="3048120"/>
            <a:ext cx="21337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38880" y="1523880"/>
            <a:ext cx="221004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85800" y="4419720"/>
            <a:ext cx="8458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are the factors that put a person at 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gher risk of suffering from CH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1828800"/>
            <a:ext cx="914400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3581280"/>
            <a:ext cx="9144000" cy="129564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hysical activity and risk of coronary heart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7238880" y="2819520"/>
            <a:ext cx="190512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191120" y="1828800"/>
            <a:ext cx="380988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 CH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038480" y="4191120"/>
            <a:ext cx="396252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out CH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600200" y="1905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676520" y="4267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1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11480" cy="5069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760680" y="533520"/>
            <a:ext cx="26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 defi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257800" y="2057400"/>
            <a:ext cx="35812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ealt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ent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ngle poi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erio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agn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5332320" y="609480"/>
            <a:ext cx="29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/s of c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0" y="1143000"/>
            <a:ext cx="9144000" cy="3808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5029200" y="5334120"/>
            <a:ext cx="304920" cy="68580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179280" y="4005360"/>
            <a:ext cx="4176720" cy="143964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179280" y="2205000"/>
            <a:ext cx="4191120" cy="165564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fficult and critical issu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dividuals who would have been selected as cases if they had the disease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ame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arability to cases essentia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urce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4476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pecial group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iends, neighbors, relativ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ideal control group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nalytical (Observational) Epidemio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im to identify potential associations between ‘risk’ factors and a particular disease or outco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971640" y="476280"/>
            <a:ext cx="33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s of contr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475680" y="19051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 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53080" y="2631960"/>
            <a:ext cx="21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limitations of the control group should be taken into account when interpreting findin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762120" y="1676520"/>
            <a:ext cx="5715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62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517680" y="1557360"/>
            <a:ext cx="4005000" cy="41767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539640" y="2492280"/>
            <a:ext cx="3961080" cy="93672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ll by defini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smok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alcoho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lati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tic 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cio-economic condit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ographical situ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lling to collaborat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xie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ot always 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ighbou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aiting to return from wor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hare environ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rally un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reliable (recall bias?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cooperativ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143000" y="762120"/>
            <a:ext cx="62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ist potential risk fac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457200" y="2168640"/>
            <a:ext cx="4137120" cy="39970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3"/>
          <p:cNvSpPr/>
          <p:nvPr/>
        </p:nvSpPr>
        <p:spPr>
          <a:xfrm>
            <a:off x="395280" y="2997360"/>
            <a:ext cx="4248000" cy="230328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Recap – confound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838080" y="2971800"/>
            <a:ext cx="7562880" cy="3886200"/>
            <a:chOff x="838080" y="2971800"/>
            <a:chExt cx="7562880" cy="3886200"/>
          </a:xfrm>
        </p:grpSpPr>
        <p:sp>
          <p:nvSpPr>
            <p:cNvPr id="208" name="Oval 3"/>
            <p:cNvSpPr/>
            <p:nvPr/>
          </p:nvSpPr>
          <p:spPr>
            <a:xfrm>
              <a:off x="1066680" y="5257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cc"/>
                  </a:solidFill>
                  <a:latin typeface="Tahoma"/>
                </a:rPr>
                <a:t>smoking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4"/>
            <p:cNvSpPr/>
            <p:nvPr/>
          </p:nvSpPr>
          <p:spPr>
            <a:xfrm>
              <a:off x="838080" y="2971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Physical 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activit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6248520" y="3353040"/>
              <a:ext cx="2152440" cy="703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cc00"/>
                  </a:solidFill>
                  <a:latin typeface="Arial"/>
                </a:rPr>
                <a:t>mortality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24080" y="342900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AutoShape 7"/>
            <p:cNvSpPr/>
            <p:nvPr/>
          </p:nvSpPr>
          <p:spPr>
            <a:xfrm rot="20229600">
              <a:off x="3352680" y="449568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>
              <a:off x="1600200" y="4648320"/>
              <a:ext cx="457200" cy="457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Rectangle 9"/>
          <p:cNvSpPr/>
          <p:nvPr/>
        </p:nvSpPr>
        <p:spPr>
          <a:xfrm>
            <a:off x="4802040" y="502920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confoun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457200" y="12952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A variable is a confounder if it is associated with the outcome of interest (death) and independently with the risk factor of interest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We are interested in the relationship between physical activity and CHD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Infant death. Smoking is also associated with CHD, and smoking and physical activity are associated with each other. Smoking is therefore a confoun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of the relationship between physical activity and CHD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1054800" y="609480"/>
            <a:ext cx="2454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onfound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ac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600200" y="2209680"/>
            <a:ext cx="3124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estri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c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Stratifie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Multiple reg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0" name="Picture 4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"/>
          <p:cNvSpPr/>
          <p:nvPr/>
        </p:nvSpPr>
        <p:spPr>
          <a:xfrm>
            <a:off x="317520" y="720000"/>
            <a:ext cx="86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tching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43434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12"/>
          <p:cNvSpPr/>
          <p:nvPr/>
        </p:nvSpPr>
        <p:spPr>
          <a:xfrm>
            <a:off x="586728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75438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 avoid confoun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e and se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difficult to analy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ssible to ‘overmatch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ssessing Causalit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tatistically significant Odds Ratios show that there are associations between the risk factor (physical activity) and the disease (CHD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y don’t prove this relationship is caus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12024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Criteria for assessing causality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(Bradford Hill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xposure before onset of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trength of associ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ependence from confound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in different populations with different levels of expo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with different studies in different setting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ose-response relationshi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Biologically plausi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vidence from anima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moval of exposure reduces ris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Strength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ood for study of rare dise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Long latent perio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an look at multiple risk factors for a single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Quicker and cheaper than cohort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1984680" y="304920"/>
            <a:ext cx="45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Times New Roman"/>
              </a:rPr>
              <a:t>Case-control studi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- summa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efficient for the evaluation of rare exposu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lection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asurement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all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fficult to interpre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incidence r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‘causation’, only associ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1598040" y="2743200"/>
            <a:ext cx="21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294200" y="5486400"/>
            <a:ext cx="267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ithou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Differences between cohort studies and case-contro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s – start with expos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s – start with dise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Rectangle 1028"/>
          <p:cNvSpPr/>
          <p:nvPr/>
        </p:nvSpPr>
        <p:spPr>
          <a:xfrm>
            <a:off x="914400" y="289548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Line 1029"/>
          <p:cNvSpPr/>
          <p:nvPr/>
        </p:nvSpPr>
        <p:spPr>
          <a:xfrm>
            <a:off x="2514600" y="3276720"/>
            <a:ext cx="35053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030"/>
          <p:cNvSpPr/>
          <p:nvPr/>
        </p:nvSpPr>
        <p:spPr>
          <a:xfrm>
            <a:off x="6172200" y="289548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1031"/>
          <p:cNvSpPr/>
          <p:nvPr/>
        </p:nvSpPr>
        <p:spPr>
          <a:xfrm>
            <a:off x="1066680" y="502920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1033"/>
          <p:cNvSpPr/>
          <p:nvPr/>
        </p:nvSpPr>
        <p:spPr>
          <a:xfrm>
            <a:off x="6172200" y="502920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Line 1034"/>
          <p:cNvSpPr/>
          <p:nvPr/>
        </p:nvSpPr>
        <p:spPr>
          <a:xfrm>
            <a:off x="2590920" y="5486400"/>
            <a:ext cx="35049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art by defining a CA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47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nical definition may be insuffici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of criteri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roducibil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rtainty of diagnosi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ven, very likely, possi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ld, Moderate, Sev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UALLY INCIDENT CASES (newly diagnos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27"/>
          <p:cNvSpPr/>
          <p:nvPr/>
        </p:nvSpPr>
        <p:spPr>
          <a:xfrm>
            <a:off x="1295280" y="20574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How man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1028"/>
          <p:cNvSpPr/>
          <p:nvPr/>
        </p:nvSpPr>
        <p:spPr>
          <a:xfrm>
            <a:off x="1295280" y="4876920"/>
            <a:ext cx="24386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imes New Roman"/>
              </a:rPr>
              <a:t>How many controls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1029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30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34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3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3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4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842760"/>
            <a:ext cx="7683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How many cases and controls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sed o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vailability of cases and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the main risk facto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view the prevalence of the risk factor in the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at would be the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valenc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the risk factor in c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pi-Info -  ask a statistici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pected differen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62120" y="2286000"/>
          <a:ext cx="4797360" cy="25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479736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4"/>
          <p:cNvSpPr/>
          <p:nvPr/>
        </p:nvSpPr>
        <p:spPr>
          <a:xfrm>
            <a:off x="5924160" y="1717560"/>
            <a:ext cx="2980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ontro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tional statist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ious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ey infor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mon sen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0" y="51814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epi-inf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2819520" y="2514600"/>
            <a:ext cx="0" cy="14479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14:35:09Z</dcterms:created>
  <dc:creator>lcuevas</dc:creator>
  <dc:description/>
  <dc:language>en-US</dc:language>
  <cp:lastModifiedBy>Computing Services</cp:lastModifiedBy>
  <cp:lastPrinted>2006-01-24T10:39:16Z</cp:lastPrinted>
  <dcterms:modified xsi:type="dcterms:W3CDTF">2008-04-11T07:33:45Z</dcterms:modified>
  <cp:revision>34</cp:revision>
  <dc:subject/>
  <dc:title>No Slide Title</dc:title>
</cp:coreProperties>
</file>